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E23-BA47-4F7A-9A87-8FD2FE4A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6A0-7693-48C1-8BCE-AEC32C68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7F1-4AE0-4895-BB9D-013E9095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378-0D48-4E7E-9143-EFA33DC8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7241-863B-45E6-A07C-648E5A79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311A-4760-464C-8CAE-C97D3041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E6FA-64D7-4156-A822-08765C08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A39B-708B-4211-8795-CFC60E9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BF11-FCF9-4A67-9BB9-A9C5CF60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7AF9-F9A4-405B-BDB8-5CFF73ED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690D-7E3F-4653-A63D-B69970DB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BD8-619C-42E4-89E4-3EBA4669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DC7D-5C2B-4657-B8E0-6800ED0E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1589-5848-40A4-9638-7E88F23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3966-D92B-4883-AADA-D746522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A23F-4B7E-4356-A7B4-3DDA7030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A11E-169F-4BCF-8152-4F18B1B7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B96-26AF-42C9-A48A-5342FCBD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096-512C-4AD1-99CD-292AE5DC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98E-BD0C-4657-82B4-95AEFB79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345-7A17-455C-9E09-ABCC948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BDA-FC95-4EB1-A6D7-F91AA108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273-534C-4A2D-A2DB-9DE407D3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234-D4CB-4E99-964E-21269AB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8F55-E4E8-4237-BC3E-41DDB7DC84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C209-E080-4D46-AC25-22AEAFAD22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Angeles County High School for the Arts</a:t>
            </a:r>
            <a:br>
              <a:rPr sz="2000"/>
            </a:br>
            <a:r>
              <a:rPr b="0" lang="en-US" sz="4400" spc="-1" strike="noStrike">
                <a:solidFill>
                  <a:srgbClr val="865a04"/>
                </a:solidFill>
                <a:latin typeface="Arial"/>
              </a:rPr>
              <a:t>Certificate of Excel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808280"/>
            <a:ext cx="815328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ereby gran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5a04"/>
                </a:solidFill>
                <a:latin typeface="Arial"/>
              </a:rPr>
              <a:t>Stephanie Sn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er Up Video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lcome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1: Wireless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962520"/>
            <a:ext cx="525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1840" indent="-2301840"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t Classroom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1840" indent="-2301840"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2FC-3446-4BA0-BA06-AA37527A5A40}" type="datetime3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1828800" cy="171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34400" y="556272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ie Becker, Julie Lindsay &amp; Vicki Da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5562720"/>
            <a:ext cx="4343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3:43:29Z</dcterms:created>
  <dc:creator>Office 2004 Test Drive User</dc:creator>
  <dc:description/>
  <dc:language>en-US</dc:language>
  <cp:lastModifiedBy>Office 2004 Test Drive User</cp:lastModifiedBy>
  <cp:lastPrinted>2007-12-21T01:06:17Z</cp:lastPrinted>
  <dcterms:modified xsi:type="dcterms:W3CDTF">2007-12-21T01:07:16Z</dcterms:modified>
  <cp:revision>2</cp:revision>
  <dc:subject/>
  <dc:title>Los Angeles County High School for the Arts Certificate of Excellence</dc:title>
</cp:coreProperties>
</file>